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18CD-A4DD-4CD8-A4BA-733B275F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5E6-F3DC-450A-ABCD-D8E7B8CC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AB7A-D385-4C2D-99C8-DFFE47EFC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3E9-4490-49D0-8351-467653F9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definition is really at the heart of geography.  Maps are the tools of geographers:  If something can be mapped, it’s ge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F9F-2AC3-4FB6-97BC-7A2D2AA3C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BFA-7712-4AED-A36C-F5D2CDE3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2B9-D4C9-4BEF-A6D3-FCE6679D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0FE-4470-4504-862F-D8F5AA79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1AD-82D9-4942-8E20-E329B11E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B22-2376-4C4B-852F-7559A060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2B5DB-5AEE-4444-9CEC-B89E90E3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C931F-0ED0-4419-B9EC-1006BB56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A4D5-3248-4673-BB51-DEED538B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52DE6-E302-44DC-955B-F63B0A0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4354-307E-4397-8E20-F7540D91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D164A-D6B7-472A-8D20-193F8C2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06D36-1BFF-4F5D-9921-469FD48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382-2E5E-4CA1-B505-475E273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9880-0D79-4ED8-AEC2-E5A85641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55B6-565D-4040-BAC8-6ACBAEB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6770-D87C-4149-9DBB-2DC28F9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5E43F-A623-43DB-B35B-17C3529F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9D9B2-AA7C-4F83-B937-80997A12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7A3-BD8E-44A8-B1F6-3555072B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E4C-FDA9-4F10-9241-9FF217B2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299-844D-44FA-8C0F-CD70337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BC3-7A4D-4CF9-AA6E-ADAF48E7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31D-7ABD-470C-B86C-217D3B0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37E-CAF7-40C0-9077-F3680E3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EA4-089C-4943-BD29-0D5E7CE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D2AA-52FA-4A5F-A07F-D60B5B7946C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3BC7-B3ED-4596-AFB3-39B8E530E27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Chapter 1:</a:t>
            </a:r>
            <a:br>
              <a:rPr sz="5400"/>
            </a:b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The World of Geography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l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includes a location’s physical and human featur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physical features, you might say that the climate is hot or cold or that the land is hill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human features, you might discuss how many people live there, what types of work they do, or what they do for fu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uman-Environment Intera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do people adjust to and change their environment?  How does the environment adjust to and change the people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________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oveme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xplains how _______________________ 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lps geographers understand cultural chang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g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region has a unifying characteristic, like 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n maps, geographers use color and shape or special symbols to show reg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Geographer’s Tool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lobes and Maps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s people explored the Earth, they collected information about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best way was to put it on a globe, a round ball that represented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ecause globes are not practical or easy to use to carry, _______________ were invente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ever, the earth is round and a map is fla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had to find ways to make maps 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How Latitude and Longitude Form the Global Grid</a:t>
            </a:r>
            <a:endParaRPr b="0" lang="en-US" sz="3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8760" y="2028960"/>
            <a:ext cx="2889360" cy="3609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75120" y="2028960"/>
            <a:ext cx="2766960" cy="345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29200" y="2028960"/>
            <a:ext cx="295128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Hemispher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9440" y="990720"/>
            <a:ext cx="4337280" cy="563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22800" y="990720"/>
            <a:ext cx="49924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lobes and Map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most accurate way to present information on the islands, continents, and bodies of water of the world is to put it all on a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a round ball like the Earth itself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only difference between a globe and the Earth itself is the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size, represented on the glob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lobes have a disadvantage: They cannot be complete enough to be useful and at the same time be small enough to be convenient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fore, people invented 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Chapter 1: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What is Geograp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*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t is the study of our earth; our home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*Anything that can be mapped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s try to show the Earth, which is round, on a flat surface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causes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istortio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a change in accuracy of the shapes and distances of places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18120" y="1371600"/>
            <a:ext cx="38736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1569, a geographer named Gerardus Mercator created a flat map to help sailors navigate long journeys across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, or method of putting a map of the Earth onto a flat piece of paper, is used by nearly all deep-sea naviga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 is a conformal map, meaning that it shows correct shapes, but not true distances or siz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re are many types of other projections of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etting It All On the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622520"/>
            <a:ext cx="4918320" cy="4471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4600" y="1293840"/>
            <a:ext cx="4626000" cy="368280"/>
          </a:xfrm>
          <a:prstGeom prst="rect">
            <a:avLst/>
          </a:prstGeom>
          <a:solidFill>
            <a:srgbClr val="5b9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93ff"/>
                </a:solidFill>
                <a:latin typeface="Arial"/>
              </a:rPr>
              <a:t>The World: Mercator Proj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0" y="8380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re are many ways to show a globe on a flat map. The interrupted projection map, on the left, shows real sizes and shapes of continents. The equal area map , below left, shows size accurately. The Peters projection, below, shows land and oceans areas and correct directions accurat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Three Proj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914400"/>
            <a:ext cx="4647960" cy="2742840"/>
            <a:chOff x="0" y="914400"/>
            <a:chExt cx="4647960" cy="27428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613" t="0" r="0" b="0"/>
            <a:stretch/>
          </p:blipFill>
          <p:spPr>
            <a:xfrm>
              <a:off x="0" y="914400"/>
              <a:ext cx="464796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914400"/>
              <a:ext cx="27525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terrupted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" y="3886200"/>
            <a:ext cx="4063680" cy="2819160"/>
            <a:chOff x="457200" y="3886200"/>
            <a:chExt cx="4063680" cy="28191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57200" y="3965760"/>
              <a:ext cx="4063680" cy="27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7200" y="3886200"/>
              <a:ext cx="22953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qual-Area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38760" y="3570120"/>
            <a:ext cx="4076280" cy="2982240"/>
            <a:chOff x="4838760" y="3570120"/>
            <a:chExt cx="4076280" cy="298224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838760" y="3662280"/>
              <a:ext cx="4076280" cy="28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838760" y="3570120"/>
              <a:ext cx="203400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ters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A Robinson Proje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447920"/>
            <a:ext cx="9143640" cy="5104800"/>
            <a:chOff x="0" y="1447920"/>
            <a:chExt cx="9143640" cy="51048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0" y="1499760"/>
              <a:ext cx="9143640" cy="50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830480" y="1525680"/>
              <a:ext cx="2107800" cy="21060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4240" y="1447920"/>
              <a:ext cx="19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6b8d6"/>
                  </a:solidFill>
                  <a:latin typeface="45 Helvetica Light"/>
                </a:rPr>
                <a:t>ARCTIC OCEA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Parts of a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Compass Ros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 compass rose is a ________________. It tells the cardinal directions, which are north, south, east, and w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scale on a map tells you the relative distance on the map to the real world. For example, a map’s scale may tell you that ______ ______________________________________________________________________________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key, or legend, on a map explains what __________________________________________________________________________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Grid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ome maps use a grid of parallels and meridians. On a map of a small area, letters and numbers are often used to help you find your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mixes up the physical and human aspects of our world into one field of study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shows the relationship between people and the environment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hat is a geographer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omeone who analyzes the Earth from many points of view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Five Themes of Geograph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 are five ways to look at the ear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hen geographers work, they are guided by two basic question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______________________________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______________________________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o find these answers, geographers use five themes to organize infor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ngs that geographers study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lant lif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ndform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the Earth and its people affect each oth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66"/>
                </a:solidFill>
                <a:uFillTx/>
                <a:latin typeface="Tahoma"/>
              </a:rPr>
              <a:t>The Five Theme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 – Geographers begin to study a place by finding where it is, or its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_ – Geographers study the physical and human features of a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___________________ – Geographers study how people affect or shape physical characteristics of their natural surroundings and how does their surroundings (environment) affect them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 – Helps explain how people, goods, and ideas get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 – Geographers compare the climate, land, population, or history of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re are two ways to think about location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solute location – _______________ 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lative location – explains where a place is by describing places near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57:15Z</dcterms:created>
  <dc:creator>Anna Bettencourt</dc:creator>
  <dc:description/>
  <dc:language>en-US</dc:language>
  <cp:lastModifiedBy>Anna Bettencourt</cp:lastModifiedBy>
  <dcterms:modified xsi:type="dcterms:W3CDTF">2011-02-22T20:24:18Z</dcterms:modified>
  <cp:revision>13</cp:revision>
  <dc:subject/>
  <dc:title>Unit 1: An Overview of Geography **************************</dc:title>
</cp:coreProperties>
</file>